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119-D0BB-4E0B-B3AA-EB207D4E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27A-600D-4299-ACF7-5774531F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414-B31C-447F-9C11-D634634C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F6A-405D-433D-AB73-920F4755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8150-36D2-44FA-888F-5DEAF0B6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EB2D-CF00-4206-8B4C-1FEA186C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7060-5E55-41B1-8A03-71F5345B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0C8E-A031-4BC7-A670-B2D1A548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BE65-FDEA-42CB-A7F9-DC940DFA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0312-5012-46C2-A685-E7000F28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E39B-774D-4717-95F1-8DA1BE4E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C67-8CE0-4009-BE41-240F3691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7404-B196-4B55-9805-25A87F69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AEEA-DEA5-4438-9B0F-54500DE8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35B9-38EA-49E9-8868-6FDC3B22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EFB3-7D15-48FB-907D-230E13B9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ED61-5773-462F-B53E-F5F5C514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0D8C-DF68-433F-9F79-A0CF5CCD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6AE2-44A3-4DF5-AF7A-5925924F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AD29-52F8-44D0-A6D5-E5F0F770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838F-3686-4AAD-BFA9-8C55F917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68F3-4B88-486A-BC48-6E82DA14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7E1-086F-43DC-AA4F-83690E74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33E8-637F-490D-967D-9F417640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C966-D312-44AE-BFFC-FDBA74F7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4B80-6308-4810-9CCF-77BF732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EAD5-569E-4EC2-9357-F1D741B2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631E9-21D6-4C69-B483-D55F66E5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62E46-5CF8-4097-AF05-9F52E910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B88E-7108-47FA-9B3B-00E28610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5765-54C7-4018-89AA-6DF3138B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9D139-F8A2-4286-ABC2-41FB5EDE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954A-C670-4559-9615-51AD3F77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F70-E949-45C5-8451-BFF0BBCB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A273-D53A-431E-B957-F8067D89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BCC07-D00D-43DA-8201-D98632DF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2FBE-1D5C-4523-9B4A-4633A756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1EC0-5668-49BF-BBD0-9660F48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9D40-6D5F-48EA-B260-46D914A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832C-76C2-4E6A-ABAA-B90A60C1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28DD7-FA44-41B5-8ECD-B10B0AE0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D2D2D-1CF1-4B08-B05F-1382B277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B705-82B8-4036-941A-A0CF5D13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5C7-FC31-4EE9-AFBD-F9ED56F7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FC2-DD7A-44C4-95C0-EE859BB5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112-35C9-4F28-A1F8-A19C7A7A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022-4BAE-480F-8F5C-D8904E3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2FC-E679-4B02-A181-EB7A341E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4424-7913-4086-8F4B-8D98D4B99A7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0068-8B06-4A49-9D72-7880B40334B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BA2F-7215-4B6A-A505-D368A1C07AA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25F6-6FA2-4098-9364-B61B4DF1D21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538px-Hexahedron"/>
          <p:cNvPicPr/>
          <p:nvPr/>
        </p:nvPicPr>
        <p:blipFill>
          <a:blip r:embed="rId1"/>
          <a:stretch/>
        </p:blipFill>
        <p:spPr>
          <a:xfrm>
            <a:off x="2843280" y="2205000"/>
            <a:ext cx="3573360" cy="39783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7"/>
          <p:cNvSpPr txBox="1"/>
          <p:nvPr/>
        </p:nvSpPr>
        <p:spPr>
          <a:xfrm>
            <a:off x="1042920" y="404640"/>
            <a:ext cx="705636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б и его 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2276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ознакомиться с понятием ку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узнать, что представляет собой сечение ку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находить объем куба по формул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- находить площадь поверхности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уба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1258920" y="765000"/>
            <a:ext cx="6256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5400000"/>
                </a:gradFill>
                <a:latin typeface="Times New Roman"/>
              </a:rPr>
              <a:t>ЦЕЛИ ПРОЕКТ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2f5e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971640" y="304920"/>
            <a:ext cx="76388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новополагающие вопро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ль куба в нашей жизн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чение ку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азывается куб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блемные вопросы учебной те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8"/>
          <p:cNvSpPr txBox="1"/>
          <p:nvPr/>
        </p:nvSpPr>
        <p:spPr>
          <a:xfrm>
            <a:off x="684360" y="189000"/>
            <a:ext cx="781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МЕРЫ КУБ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0" name="Picture 9" descr="3057x1500y1500"/>
          <p:cNvPicPr/>
          <p:nvPr/>
        </p:nvPicPr>
        <p:blipFill>
          <a:blip r:embed="rId1"/>
          <a:stretch/>
        </p:blipFill>
        <p:spPr>
          <a:xfrm>
            <a:off x="2124000" y="198900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0_ab6b_c676dc4a_L"/>
          <p:cNvPicPr/>
          <p:nvPr/>
        </p:nvPicPr>
        <p:blipFill>
          <a:blip r:embed="rId2"/>
          <a:stretch/>
        </p:blipFill>
        <p:spPr>
          <a:xfrm>
            <a:off x="1116000" y="2205000"/>
            <a:ext cx="6350040" cy="3759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23866--Large"/>
          <p:cNvPicPr/>
          <p:nvPr/>
        </p:nvPicPr>
        <p:blipFill>
          <a:blip r:embed="rId3"/>
          <a:stretch/>
        </p:blipFill>
        <p:spPr>
          <a:xfrm>
            <a:off x="3276720" y="1773360"/>
            <a:ext cx="2496960" cy="3970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1210916645_wc_11"/>
          <p:cNvPicPr/>
          <p:nvPr/>
        </p:nvPicPr>
        <p:blipFill>
          <a:blip r:embed="rId4"/>
          <a:stretch/>
        </p:blipFill>
        <p:spPr>
          <a:xfrm>
            <a:off x="1547640" y="2276640"/>
            <a:ext cx="5715000" cy="3190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Schutz_plastik9246"/>
          <p:cNvPicPr/>
          <p:nvPr/>
        </p:nvPicPr>
        <p:blipFill>
          <a:blip r:embed="rId5"/>
          <a:stretch/>
        </p:blipFill>
        <p:spPr>
          <a:xfrm>
            <a:off x="2124000" y="1700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1280" y="19159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чебные вопросы для 1-й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то такое куб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ова формула площади поверхностей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чебные вопросы для 2-й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то называется сечением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ова формула объема куб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187280" y="9079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2 группы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арыгин И.Ф. , Шевкин А.В. «Математика: задачи на смекалк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льман Я.И.   «Занимательная геометр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йкин М.И.   «Развивай геометрическую интуицию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рднер М.    «Математические чудеса и тайн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116000" y="112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6"/>
          <p:cNvSpPr txBox="1"/>
          <p:nvPr/>
        </p:nvSpPr>
        <p:spPr>
          <a:xfrm>
            <a:off x="1332000" y="2060640"/>
            <a:ext cx="7018200" cy="25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ДЁМ ВАС НА НАШ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АХ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9:58:43Z</dcterms:created>
  <dc:creator>Олюшка</dc:creator>
  <dc:description/>
  <dc:language>en-US</dc:language>
  <cp:lastModifiedBy>26542</cp:lastModifiedBy>
  <dcterms:modified xsi:type="dcterms:W3CDTF">2010-05-28T10:35:43Z</dcterms:modified>
  <cp:revision>35</cp:revision>
  <dc:subject/>
  <dc:title>Тело Вращения - цилиндр</dc:title>
</cp:coreProperties>
</file>